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8F6-2BD5-4451-9589-1CC9CD20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276-277F-42A9-ADC7-F03B4BFD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4E8-F2CB-491B-9BFB-7DAC4CD3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AB2-0C4C-4565-8282-AE44138A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373-DD08-4B53-853B-CE470C6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FC8-8479-4754-8870-325318E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7ED-03F0-4C36-B597-8BAADBD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9E6-76BE-4BD0-8545-A22E89A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07B-C35F-4DBE-9F47-DC0AD0E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46F-DD70-40EF-9899-BF854E8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5F1-04C1-46B3-9FD3-871121B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C37-36FA-4B3B-BE78-482026C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FFA2-C4A2-46AB-BEB4-C5F35FE4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6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a el med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¿Qué te duele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Qué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¡Que te mejores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8144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99080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2057400"/>
            <a:ext cx="2057400" cy="221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1760" y="36576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40" y="4129200"/>
            <a:ext cx="21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280" y="3657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32240" y="4114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3840" y="426708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3320" y="4724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de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1000" y="5486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el better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6 y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1:26:24Z</dcterms:created>
  <dc:creator>Helen Zumaeta</dc:creator>
  <dc:description/>
  <dc:language>en-US</dc:language>
  <cp:lastModifiedBy>Helen Zumaeta</cp:lastModifiedBy>
  <dcterms:modified xsi:type="dcterms:W3CDTF">2011-05-06T20:06:52Z</dcterms:modified>
  <cp:revision>2</cp:revision>
  <dc:subject/>
  <dc:title>Me llamo _______ Clase 7 IM La fecha es el 6 de mayo del 2011</dc:title>
</cp:coreProperties>
</file>